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83D-B455-42B5-BE1A-6ADA9623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E97-9CC3-4F5B-A463-83B7AD1B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303-8C1C-4413-B706-1498FB52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C1F-8408-4569-A2E9-274F2E1D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3DC-23FE-4BB8-BFFC-745B0FE6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092-9DDC-4F6A-B82E-68953249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5EE-2806-4733-9374-2B2D1C32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A46-B239-4C56-AA5D-E56EA10D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394-05F0-4A4A-A844-1E3B88D8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518-F23E-429D-9F4D-6A6E1379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64A-1F1C-4C07-AA80-B588459E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063-BC40-48F2-8C31-76B72E65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895C-FA08-43B8-A4DE-D9CE511C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336"/>
          <a:stretch/>
        </p:blipFill>
        <p:spPr>
          <a:xfrm>
            <a:off x="609480" y="0"/>
            <a:ext cx="571500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4:53:18Z</dcterms:created>
  <dc:creator>Patrick J. Mooney</dc:creator>
  <dc:description/>
  <dc:language>en-US</dc:language>
  <cp:lastModifiedBy>Patrick J. Mooney</cp:lastModifiedBy>
  <dcterms:modified xsi:type="dcterms:W3CDTF">2011-01-11T14:56:52Z</dcterms:modified>
  <cp:revision>2</cp:revision>
  <dc:subject/>
  <dc:title>Slide 1</dc:title>
</cp:coreProperties>
</file>